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772400" cy="100584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4F2-FDA7-4D04-AC57-A084C592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362-4B36-4BD2-A914-42975E60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724-C368-45C5-8D4A-BB734A67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17D-8534-4490-89A9-A83F7239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5EF-B95C-4713-A148-421D11B7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EFD-5474-4E35-8FE3-C9963C02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70F-46FB-471B-AF3E-2C626FEF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6ED-D64A-4DBC-B23A-A6BA61A1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962-5773-4B8B-BD27-58AD67EF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9AF-D202-4489-B9FA-B42BFF3A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05C-564E-4988-B2C6-A09A70C9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C9D-4067-4FA4-9055-308E0852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323280"/>
            <a:ext cx="2460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1751-F756-42C7-911F-20E63C89C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7599240"/>
            <a:ext cx="7772400" cy="24591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777960" y="8493120"/>
            <a:ext cx="62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ottOldStyle"/>
              </a:rPr>
              <a:t>Triple click and type the topic of your Flap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3886200"/>
            <a:ext cx="194328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194328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943280" y="3886200"/>
            <a:ext cx="194292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886200" y="3886200"/>
            <a:ext cx="194328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5829480" y="3886200"/>
            <a:ext cx="194292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829480" y="0"/>
            <a:ext cx="194292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886200" y="0"/>
            <a:ext cx="194328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943280" y="0"/>
            <a:ext cx="194292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228600" y="4359240"/>
            <a:ext cx="152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ple click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xt box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text for part or step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2057400" y="435924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ple click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xt box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text for part or step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4038480" y="435924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ple click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xt box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text for part or step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5943600" y="435924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ple click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xt box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text for part or step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17"/>
          <p:cNvSpPr/>
          <p:nvPr/>
        </p:nvSpPr>
        <p:spPr>
          <a:xfrm>
            <a:off x="-2743200" y="609480"/>
            <a:ext cx="1935000" cy="268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graphics or pictures in these box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7599240"/>
            <a:ext cx="7772400" cy="24591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3886200"/>
            <a:ext cx="194328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0"/>
            <a:ext cx="194328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943280" y="3886200"/>
            <a:ext cx="194292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3886200" y="3886200"/>
            <a:ext cx="194328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5829480" y="3886200"/>
            <a:ext cx="194292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5829480" y="0"/>
            <a:ext cx="194292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3886200" y="0"/>
            <a:ext cx="194328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1943280" y="0"/>
            <a:ext cx="194292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4038480" y="1066680"/>
            <a:ext cx="160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ple click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xt box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cover text for step 2 .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t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box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2133720" y="1036800"/>
            <a:ext cx="16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ple click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xt box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cover text for step 3.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t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box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152280" y="1066680"/>
            <a:ext cx="167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ple click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xt box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cover text for step 4.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t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box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17"/>
          <p:cNvSpPr/>
          <p:nvPr/>
        </p:nvSpPr>
        <p:spPr>
          <a:xfrm>
            <a:off x="-3048120" y="609480"/>
            <a:ext cx="2849760" cy="3353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pictures in these boxes, add text, or do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5943600" y="1036800"/>
            <a:ext cx="167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ple click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xt box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cover text for step 1 .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t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box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lowchart: Decision 19"/>
          <p:cNvSpPr/>
          <p:nvPr/>
        </p:nvSpPr>
        <p:spPr>
          <a:xfrm>
            <a:off x="-3276720" y="5334120"/>
            <a:ext cx="2971800" cy="2819160"/>
          </a:xfrm>
          <a:prstGeom prst="flowChartDecision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slide one.  Feed the paper back through and print slide tw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lowchart: Decision 20"/>
          <p:cNvSpPr/>
          <p:nvPr/>
        </p:nvSpPr>
        <p:spPr>
          <a:xfrm>
            <a:off x="7848720" y="4419720"/>
            <a:ext cx="3429000" cy="3352680"/>
          </a:xfrm>
          <a:prstGeom prst="flowChartDecision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printing cut between vertical slits between flaps.  Cut between the top rectangles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5:58:47Z</dcterms:created>
  <dc:creator>ccunningham</dc:creator>
  <dc:description/>
  <dc:language>en-US</dc:language>
  <cp:lastModifiedBy>Valued Acer Customer</cp:lastModifiedBy>
  <dcterms:modified xsi:type="dcterms:W3CDTF">2010-07-12T13:55:34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oReflect">
    <vt:bool>0</vt:bool>
  </property>
  <property fmtid="{D5CDD505-2E9C-101B-9397-08002B2CF9AE}" pid="3" name="KeepGraph">
    <vt:bool>0</vt:bool>
  </property>
  <property fmtid="{D5CDD505-2E9C-101B-9397-08002B2CF9AE}" pid="4" name="ShowPercent">
    <vt:bool>1</vt:bool>
  </property>
  <property fmtid="{D5CDD505-2E9C-101B-9397-08002B2CF9AE}" pid="5" name="ShowTimer">
    <vt:bool>1</vt:bool>
  </property>
</Properties>
</file>